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AAB-B1F3-4E15-A484-FD8C706C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F76-A968-4143-B01A-A666F8D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DE21C-A5F2-48AB-9609-D6A39FF3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0CED8-4047-4340-B0ED-C3E4A5CC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C9C29-CE1A-422D-978C-F4D39CC9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AA164-7B68-4374-BFCE-11013D5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4C4C-2D80-409D-9B3A-2052826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75DEA-E983-4FEF-9760-8774227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67672-2B45-4372-AC84-6EBE8F1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BE03D-771C-4EE6-B070-3570AC16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61D3-D773-4E3A-9F1B-1FFD2D42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3E10-0D38-48D2-AB91-3C60DDBE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9FF-46B7-4FB7-8105-12887B5A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99171-DE16-4679-9C7A-2990683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4742A-BE95-4E1C-9525-017ECF3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8BEC-F02D-4201-9869-0F5A1F0D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7B0E9-CB28-4828-A9E8-BD0C5EA5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AEEA5-F895-4720-A80B-D072E0F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647B0-EB93-4852-9C6B-729F0D0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D4600-F256-43CB-A9A2-D0DEA8C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A1157-75A8-4F4B-8AEB-9B03208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54C62-DACD-4C9B-995E-50AB6277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4C8AA-3B94-4D75-A92E-677AAB19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1DD-B2B2-4D0A-8C12-1CC1E79A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30DEB-FED8-488B-B095-0BF0C3DC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A3D1-BEEC-4E83-A4FF-7CC6B898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81A87-9F35-423A-9877-27AA75C5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AD746-0434-4C89-A7BE-9614C41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3A39-A43B-4370-9611-F9ACBEC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D94A5-3C79-4939-AC58-84CB7D3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B4CB-E30B-4B0A-BA24-BBF2BEA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5EC88-4A39-4400-AAA3-62197C3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8982E-AD67-4CEC-BB18-E5DBD7A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E0F13-CC9B-4829-BFD0-BED7DA0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7A2-7400-4DF3-8C63-8C29E4E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3621-E2E9-4180-AAE3-5B7999F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80C4F-C5FA-4F48-B63A-F62FBF08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500F-483F-465C-AC35-CC7E726E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4A25A-CAC0-40D8-8E24-DC3B0DEC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3FCE6-588C-4386-9AA7-AB6074A7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8C3A3-7FE1-4DBE-98D9-5AB751BD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8F12E-C806-4A85-BFAC-5ADF9B2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2631-DFB4-4EB5-8789-168BCB17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E37F1-EC8A-43FB-9605-064261A3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F4158-0D66-4FA2-A241-9328F83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8967-9070-4D46-A3AD-D2FF6FE1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D5278-95B2-43AE-A885-1B92221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D5D47-119A-4F01-BE10-A83F23A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263EB-DC2B-4476-8326-624A595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212C-4B55-4E64-A0C4-4D198A89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9D3FF-AD33-4965-B44B-A350EDFE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6CAC4-811C-40EE-ABC1-7A25CE79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DC473-7300-4B67-85D2-1D89FF7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8999A-A04C-4B0F-984F-F9030DEE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2D5C9-874E-400A-B1E0-1927E33A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E5BA1-EA75-4FD5-B267-1B7DCBB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F28-5DA0-4559-A569-15939C5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C888E-035D-4030-AA69-B000297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B9AC2-82E0-4CBB-8649-59AC48D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3AB6D-665C-4F8B-BCF5-FCB063F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143A7-5BC2-48C4-9C25-27CB1A6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5E1D9-E2B1-48E9-99E7-A48281E2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88E5B-D548-41EB-86FC-469A6F11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4E636-68C5-43DD-AA34-2DFDEBC3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E998E-8CEC-409D-8394-1B0E13B9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539D6-20DE-430A-8675-33B28BE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4D67A-89B2-4AA8-BA35-278746C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4F4-B633-4498-84FC-BE5D794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8DB43-907C-4C74-8CAC-6D1DA1CF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920E7-2DAE-461D-BDA8-A4105E7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2BFD9-F4F5-4604-9B58-5D9E0CBD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4FE97-BEFF-4E0D-A134-8E1B2FC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EF33E-93CA-4BC8-B1BC-DE23DC6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DE1E8-8449-4D30-8DFD-4E35E3D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919B0-EA91-4CA1-8538-915CFC6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44579-CF54-4025-9BCC-EBA40575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34B16-6C48-43F6-8687-7071D6C5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57DE6-442B-47B4-B790-BCF1BF3A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2E37-9FD5-4BCC-8F39-3EADD71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D90B9-3B63-4D8A-B155-0B9248A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16BFE-D9E1-4285-AD24-86BD7A9B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B5305-DAE6-4E72-A80E-807C3BB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98FFF-62F9-4D1C-9B3D-597B7AE2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70BD9-85C1-46D0-865F-920E11C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71AFF-9501-4120-B715-3B7E612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974AE-FC6A-401E-A04A-A4F6BEDA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C363C-1401-487C-BCB6-B1DB22E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20EE0-F22D-4701-BAD6-3C8C9EF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13968-61C8-4343-904C-F6F55268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9571-6F4F-4067-A011-C56C1CE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6378F-7BE5-43F4-8133-34657E3D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150AC-C721-48B6-8928-5D2ED695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367A1-8EEB-435D-AA20-5CF005E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6E01B-7058-4835-9730-0406132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329DA-B09C-4C9A-80D3-0AEED4C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955E1-76D0-4175-BE7A-0BE292E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B5FA2-ACBF-4DBE-92D7-FECA437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AC01E-5B4C-4F03-977A-F534E69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5BCB3-037B-4C9E-A0E2-8F3C8E2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A6BF0-44A7-4557-A667-2A814B4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4BE-479E-4426-9F21-5D1316D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50A3E-135D-48BD-A7EE-DE19B5A2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24794-2B5D-4775-AF67-7BD62450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57B6F-484E-478C-916B-751C50A5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C3F62-9850-4DFF-B393-A46FBFB9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DD7F8-C878-44B3-BB76-8C4A911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20574-18BD-446B-BCF9-5D1650F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4F6FC-B73B-4913-AB80-AEF54F3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F5BE8-2940-4615-A11A-ED91468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9BE6E-75A2-4A1A-B5B8-5DCD370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3E377-BBA8-48AD-B7CC-533ED34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54A-CB00-4493-A2D1-91FB2A6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A94F-85E3-46CB-B8D6-8F1AE9B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4956A-AF74-4BC5-A05B-52B4E09A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3889A-EB59-4F53-B04A-D98AC0A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E0606-57F7-4DA7-8D07-118EF87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2D9DC-8A90-47CE-9C58-AB1ABA50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A8250-D1DA-4510-ADF2-66FF7C4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C5891-194B-4B52-B784-CE91606B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CA4E9-3709-4FA6-93C1-7894398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83A8A-5C97-43F4-BBA5-9209F909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DE82D-C00F-4C23-A5BA-BF9D619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ABCC3-4AF2-4C02-8410-1FE8E201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77D8-525F-4641-A859-D0CAFBDB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37A7F-70E1-4E23-9A96-EED63A0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D24C2-3395-4C21-9614-F359C61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FD57B-6CA7-4C35-95C3-B30A086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C41BB-1257-4229-A159-7BA316D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9C014-2C42-4703-A38A-EF89E84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A736A-F618-419A-925E-561669DB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E200D-7232-4B0D-A653-2652F3B5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E34-05A5-406E-BDCB-7A65685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3FB6-547D-4A07-AD0B-43A6F7FE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2284-FF7F-4D10-BA66-F223ED9F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820A-E5E9-4255-B4F6-F3799E1B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7362-B38A-42A4-8A6C-9DD9FF5F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E6DE-AC69-4B08-BAFB-5C2D724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A6A3-7325-47B9-B66D-3118F8C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E18F-1B22-4AEB-BF5A-C0AD8D27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DF2-789C-4E67-9FB1-23DB6863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861D-30D6-4CCA-970C-74B35BE8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7F93-C709-41D9-B5D4-732AE0E5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7A03-3389-470B-A626-C6534BF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D52A-7EB8-4B56-B336-69432C1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893C-C113-4761-B61C-C5465CE4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25DD-5402-4809-8287-AE026A5B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A884-A9A5-4526-9401-271E5DD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DF9E-8267-4E2B-B6FD-5699B1A6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763D-C3D7-4438-BA17-6FEA2C7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943D-9F54-4737-9A1B-54C1467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7D8-D81B-474D-9F8C-6F974C1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CC4B-C433-49A2-9320-2C10DE7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CB86-B637-47A7-92EE-0F6C2E7C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195F-F593-4596-A42B-9D0C305E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AEDA-6866-44EC-BB3D-7E989D6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1ADE-0151-4539-8CD6-0ECDF7B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09B4-8211-4075-996D-54DBE0D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492D-87C4-4A69-A580-9A14170F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87EC-7351-41EF-9BFC-FBB6CE2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D16D-9019-4F89-BA2D-A2BBF6AA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5682B-3E81-4680-A21B-3B2D739D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F5D-5088-4657-95CC-0072270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58D3-60E4-48B6-B7AB-5D36C115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D0F6-678F-42F6-B96E-651B614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5B4C-B197-48F8-A177-4C885CE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20B0-1222-47DD-80D9-DD977CA8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1407-1F6B-4FE6-B5E4-20242CB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5707-3A03-4C83-B7D7-C08A09C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F98F-CE17-4416-9AC4-086C4F2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88E4-6C71-4112-994A-771D18E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4505B-B981-4A57-8926-598BA087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6311-3B57-4C14-8B9B-38116860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A2B-B911-49F2-B15E-86C5857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4270-D3FD-41EC-88DA-B32A38CA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C028-B2EE-44D9-8118-7D841069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0430-46E7-4316-A244-D6391C0D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3B3D-8892-4321-915A-D8C9214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04B9D-5712-418F-8982-CEA535D6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037E-5FBB-4A27-A548-FAB8597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562FD-0C88-440E-B6CE-B7B0F1F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48DB-8E50-4C5E-82A7-A0019C0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E3CCA-30CD-45A9-AA87-04495E82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A754-C8DE-4C71-B850-6376F811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1B3-D720-42F0-A971-98E8909B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FE8A-06DB-4FA8-A10B-5EF4A532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F7B8-392D-4357-A314-BA37FDE6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130C-34A7-47BD-BC12-B45558F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1815-DCA6-4A3C-9C00-27B4006C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057E-429F-4A8C-A6DF-7F6B3B22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AFFC2-16E3-40BA-AF3F-36CF42C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F28B8-B127-44FB-B237-B5933524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E9B7B-5C36-4D7A-88D2-B7F1236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F1B9-ADAA-4E53-A9C7-3805118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DC93-00BE-4E5E-BF36-5BA8ABF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081-D170-4087-9E1E-493DC76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EE40-E176-40B9-92D5-6355BD5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C655-0BAE-4BF7-B4DE-E28199ED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B237-99B5-44AE-9EEA-53279054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3A88-1210-456F-BEF6-BEC05E97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E7617-4730-4692-9576-08DCC9DF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DC61D-030C-4DD5-ADE4-9BE2EFCC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88F5-5928-48F9-B5B0-1578C03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F89E-0DED-4314-8B36-51CC89C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B1B1C-6410-4C0E-8A66-AE2359A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E131-084A-4154-BDDC-46B89C2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071-7050-424F-9995-116F1D9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2628-C682-4FFD-82A2-725D869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6B84-34CD-4903-BFFD-D8ECD9BF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49AE-C5DA-48D4-AC90-4858180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1FB55-2648-48BE-BF02-01DE706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CC85D-2BEF-4ED8-B24C-9248E2C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2189-A23E-421D-AEF3-EE7F221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26BE0-9305-4D1B-BD8E-C923E15C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E88D1-B79B-4AAF-AE9B-F0E424EF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E806D-EF8E-4BB5-8EFE-4A103FEC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E401-C6A9-4AD2-8452-C39C37E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446-D71D-4199-B540-1AA70B997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610-0EF7-4126-9EA2-66E77774C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9D5-5665-4636-AD60-FB3B64CDB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C71-48D1-4E6C-9BC2-0BB998D20A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E7BF-54FF-4CF3-B0AA-CF5BA9B01C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9C0E-8FB4-45E2-97A2-1877FD8537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277-4E70-44C3-B0C8-12510DD5BB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51F-C945-4784-8780-F7218E79C5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39D6-BCC0-4B7B-B1C5-EB10A245CA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DDF8-17AD-4BE9-B63E-9BE8D5D28E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AF7D-A767-408B-9A0C-FCD56926C1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82A-6858-4785-9847-AC5874474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750-7A5F-4781-813A-82C163C4D0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AB0F-7EBE-4A52-873F-A2C7B9B69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3DEF-06E7-4621-8951-2398F84F1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581-5CE3-4326-81E0-B150CE105E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9B8-7D79-4919-822B-4CF921E059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25D-B73A-4E52-8979-BEF1259D58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2066760"/>
            <a:ext cx="8690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1073160" y="2306520"/>
            <a:ext cx="105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Regional water and energy seminar; 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 –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1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 may 2014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VISION &amp; STAKEHOLD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S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L SOLOMON ISLANDERS WITH EASY ACCESS TO SUFFICIENT QUANTITY AND QUALITY OF WATER, APPROPRIATE SANITATION, AND LIVING IN A SAFE AND HYGIENIC ENVIRONMENT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IN STAKEHOLDER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IG: MMERE, MHMS, RD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GOs: WORLD VISION, ADRA, CARITAS, RED CROSS, SIDT, and othe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NDING SUPPORT: DFAT, EU, World Ban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IN ISSU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0% OF ALL DEATHS IN SI ARE WASH RELATED…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ECONOMIC AND NATURAL RESOURCES BENEFITS ARE THERE, RWASH IS PRIMARILY ABOU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w Cen MT"/>
              </a:rPr>
              <a:t>PREVENTATIVE HEALTH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REGULATORY BASE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NO WATER ACT, POLICY, STRATEGIC PLAN, TECHNICAL STANDARDS, and other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COORDINATION &amp; PLANNING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USTAINABILITY OF WATER SUPPLY SYSTEMS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50% OF ALL NEW WATER SYSTEM BREAK DOWN WITHIN 2 YEARS AFTER COMPLETIO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ANITATION AND HYGIENE BEHAVIO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LOW SANITATION COVERAGE &lt;18% RURAL HOUSEHOLDS, EVEN LOWER FOR HAND WASHING WITH SOAP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VENTATIVE HEALTH: =&gt;INTEGRATED WASH PROJECT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STREAMING SANITATION AND HYGIEN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AME CHANGE: RWSS -&gt; RWASH PROGRA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RAFT POLICY NOW AT EXECUTIVES FOR ENDORSEMENT, THEN CABINET; ( JUST ENDORSED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NGINEERING STANDARDS DRAFT 90% COMPLET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WASH STRATEGIC PLAN UNDER DEVELOPMENT NOW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MUNITY ENGAGEMENT REQUIREMENTS – EXTERNAL INPUT EXPECTED 2014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914040" y="1728360"/>
            <a:ext cx="103633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ORDINATION &amp; PLANNING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WASH STAKEHOLDER GROUP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URAL WASH OVERSIGHT COMMITTE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CTOR COORDINATION DATABAS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ASELINE STUDY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ANGE OF ROLE OF THE GOVERNMENT (MHMS) FROM IMPLEMENTER TO REGULATOR/MONITOR/QUALITY CONTROL =&gt; REQUIRE MORE INVOLVEMENT OF SECTOR PARTNERS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STAINABILITY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ENGINEERING STANDARDS AND STANDARD DESIGNS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MMUNITY ENGAGEMENT REQUIREMENTS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including mobilization and planning, water committee training, water security, climate change, hygiene, basic plumbing skills, etc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ANITATION AND HYGIENE BEHAVIOR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NOVATIVE SANITATION APPROACH ON NATIONAL SCAL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ATIONAL HYGIENE CAMPAIG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CONOMIC INVEST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ENEFIT – COST RATIO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HO REPORT (2012)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INVESTMENT IN WATER SUPPLY ALONE COSTS MONEY, INVESTMENT IN WATER SUPPLY &amp; SANITATION COMBINED HAS A NEAR DOUBLE RETUR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MOST BENEFITS DUE TO TIME SAVINGS (70%), AND HEALTH CARE SAVINGS (10%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URRENTLY EHD/RWSS DOES APPROXIMATELY 45 WATER SUPPLY PROJECTS/YEAR, BUT 0 WASH PROJECT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281240" y="2798640"/>
          <a:ext cx="8127720" cy="148428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CE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LOMON IS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N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TER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D WAT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1.8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VINAKA VAKALEV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5:03Z</dcterms:created>
  <dc:creator>rwss</dc:creator>
  <dc:description/>
  <dc:language>en-US</dc:language>
  <cp:lastModifiedBy>rose tungale</cp:lastModifiedBy>
  <dcterms:modified xsi:type="dcterms:W3CDTF">2014-05-13T05:58:11Z</dcterms:modified>
  <cp:revision>17</cp:revision>
  <dc:subject/>
  <dc:title>RURAL WATER SUPPLY, SANITATION &amp; HYGIENE</dc:title>
</cp:coreProperties>
</file>